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15DE-A764-494C-B094-8E3A58DEF7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71AF-15C2-455B-AA7E-A6D26E9EC9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F569-5A5F-4A26-82F9-AF79ABF8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9791-0BF2-4369-9BA7-E4EFD826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5B22-6AC8-4598-80FB-26EBD16B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F0CB-C1B2-4855-A25C-0FA7F4DE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2F4D-E99F-4CEA-9776-8EDF7708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55AF-04F0-4AED-B4D4-23FE45F3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E097-8972-492B-9288-771BF9EB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474F-6F77-4211-B557-E9931438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C167-6BCE-4EB7-8F4B-CD98D529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BE16-C726-4F76-B839-3B110733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B619-B381-4381-B1B9-451FE547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D75A-7D0D-492E-A2C6-8E5961E2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A080-9F3E-449E-BD7C-02042913F1B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ublication.pravo.gov.ru/Document/View/0001202107050027?index=2&amp;rangeSize=1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26 августа 2021</a:t>
            </a:r>
            <a:br>
              <a:rPr sz="24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егиональный проект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«Образовательный лифт: ШНОР»-2021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Предметная группа : учителя английского языка общеобразовательных учреждений Пермского края</a:t>
            </a: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Промежуточный вебинар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Моя работа в проекте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«Образовательный лифт»: первые итоги»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уководитель группы: Тихомирова О.А., снс  отдела научно-методического сопровождения обще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ГАУ ДПО ИРО ПК 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oat_poipkro@mail.r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Подход к изучению иностранных языков в начальной школе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К окончанию начальной школы учащиеся должны научиться строить диалог на 4-5 фраз со стороны каждого собеседника, составлять монолог на 4-5 реплик, воспринимать и понимать на слух до минуты адаптированного или аутентичного текста и писать тексты объёмом до 80 слов в рамках тематического блока «Мир моего «Я». Мир моих увлечений. Мир вокруг меня. Родная страна и страна изучаемого язы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целом языкового уровня должно хватать для «элементарного бытового общения» и знакомства представителей других стран с «культурой своего нар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D:\РабочийСтол\Screenshot_2.png"/>
          <p:cNvPicPr/>
          <p:nvPr/>
        </p:nvPicPr>
        <p:blipFill>
          <a:blip r:embed="rId1"/>
          <a:stretch/>
        </p:blipFill>
        <p:spPr>
          <a:xfrm>
            <a:off x="395280" y="260280"/>
            <a:ext cx="813744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Новые примерные рабочие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D:\РабочийСтол\Screenshot_1.png"/>
          <p:cNvPicPr/>
          <p:nvPr/>
        </p:nvPicPr>
        <p:blipFill>
          <a:blip r:embed="rId1"/>
          <a:stretch/>
        </p:blipFill>
        <p:spPr>
          <a:xfrm>
            <a:off x="684360" y="1557360"/>
            <a:ext cx="3527280" cy="489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РабочийСтол\Screenshot_2.png"/>
          <p:cNvPicPr/>
          <p:nvPr/>
        </p:nvPicPr>
        <p:blipFill>
          <a:blip r:embed="rId2"/>
          <a:stretch/>
        </p:blipFill>
        <p:spPr>
          <a:xfrm>
            <a:off x="4716360" y="1600200"/>
            <a:ext cx="3384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Содержание  примерной рабочей программы по английскому языку в основной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D:\РабочийСтол\Screenshot_1.png"/>
          <p:cNvPicPr/>
          <p:nvPr/>
        </p:nvPicPr>
        <p:blipFill>
          <a:blip r:embed="rId1"/>
          <a:stretch/>
        </p:blipFill>
        <p:spPr>
          <a:xfrm>
            <a:off x="826920" y="1052640"/>
            <a:ext cx="6624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План мероприятий проекта ОЛ- ШН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268280"/>
          <a:ext cx="8229600" cy="5329440"/>
        </p:xfrm>
        <a:graphic>
          <a:graphicData uri="http://schemas.openxmlformats.org/drawingml/2006/table">
            <a:tbl>
              <a:tblPr/>
              <a:tblGrid>
                <a:gridCol w="3251160"/>
                <a:gridCol w="2951280"/>
                <a:gridCol w="20271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очный семинар/ вебин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ы 1,2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3.202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омежуточный семинар/вебина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Группа ОЛ-21: 11.00-12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6.08.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ая конференция по проек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 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мерный перечень проектов в рамках проекта «Образовательный лифт: ШНОР» по итогам работы в проекте в 2021 г. (Для представления на НПК в ноябре 2021 г.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. Школьная модель оценки образовательных достижений  учащихся  в условиях требований ФГ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2. Взаимосвязанное обучение лексической и грамматической сторонам устной реч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3. Игровые технологии при обучении лексике на уроках английского язы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4.Проектирование современного урока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5. Средства достижения образовательных результатов в УМК «  ……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6. Дифференцированный подход в обучении. Эффективные приемы из  практики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7. Разработка и применение на практике тренировочных учебных материалов для формирования  языковых навыков и речевых умений в области чтения, аудирования, говорения или письма.  (На выбо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8. Применение интерактивных средств обучения (интерактивной доски, электронных образовательных ресурсов и т.д.) на уроках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9. Электронное обучение и дистанционные образовательные технологии  в образовательном процессе (Из опыта рабо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0.Реализация принципа преемственности в обучении английскому языку учащихся 5-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мерный перечень проектов в рамках проекта «Образовательный лифт: ШНОР» по итогам работы в проекте в 2021 г. (Для представления на НПК в ноябре 2021 г.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1.Формирование навыков читательской грамотности в образовательном процессе по английскому язы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2. Методический инструментарий УМК «…….» в достижении планируемых результатов обучения английскому язы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3. Использование средств визуализаци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4.Организация самостоятельной работы обучающихся в основной и старшей шк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5.Приемы активизации речемыслительной деятельност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6.Новые формы внеурочной иноязычной деятельности, практикуемые в  МАОУ/МБОУ/МОУ «……….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7.Самоанализ педагогической деятельности в 2020-2021 учебном году: достижения и неуда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8. Практика обучения  английскому  языку в условиях, когда учащиеся не разделены на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9.Формирование навыков критического мышления на уроках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20. Специфика работы с учащимися, имеющими низкую мотивацию к изучению английского язы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План вебинара (рабочий язык: русский, англий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74c8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1. Основные результаты  работы участников проекта  «ОЛ-21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(количественные и качественные показатели) на текущий пери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2.Ключевые направления развития иноязычного образования в Пермском крае в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2021-2022 учебном году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.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Основные задачи и пути реализ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Тихомирова О.А,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СНС  отдела НМС ОО ЦНППМ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3. «Что нужно знать о задании 40 ЕГЭ (Эссе) по английскому языку»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Корелина Н. Н.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, учитель английского языка высшей категории МА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«СОШ № 50 с углубленным изучением английского языка, руководитель методического объединения учителей английского языка г. Перми ,эксперт ЕГЭ, член краевой  конфликтной коми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4. Лайф-хаки для педагогов от участника проекта «ОЛ-ШНОР-21»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Рихсиевой Л.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Данные о выполнении з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3484440"/>
        </p:xfrm>
        <a:graphic>
          <a:graphicData uri="http://schemas.openxmlformats.org/drawingml/2006/table">
            <a:tbl>
              <a:tblPr/>
              <a:tblGrid>
                <a:gridCol w="1738440"/>
                <a:gridCol w="2232000"/>
                <a:gridCol w="2201760"/>
                <a:gridCol w="2057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 вы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представленных раб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общего числа участ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42 че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9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Выбор темы итогового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Не представили работу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4000" y="907920"/>
          <a:ext cx="8137440" cy="5780160"/>
        </p:xfrm>
        <a:graphic>
          <a:graphicData uri="http://schemas.openxmlformats.org/drawingml/2006/table">
            <a:tbl>
              <a:tblPr/>
              <a:tblGrid>
                <a:gridCol w="431640"/>
                <a:gridCol w="2736720"/>
                <a:gridCol w="496908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О педаг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тельное учре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Александрова Татьян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СОШ №3» г. Горнозавод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Джумалиева Евгения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СОШ №16 С УИОП» г. Лысь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Еговцева Юлия Пав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Мельничная СОШ» Части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Зорина Екатерина Анатол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СОШ №1 г. Кунг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лых Анастасия Пав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СОШ №1 г. Кунг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Вахитова Роза Васим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Карьевская СОШ Орди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екрасова Людмил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 СОШ №60» г. Перм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емтинова Наталья Михай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Екатерин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урисламов Артур Мударис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КОУ « Богородская СОШ» Бикбаевская шко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Попова Елена Михай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 «Моргуновская ООШ- ДС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Хардина Ирин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СОШ №16 с УИОП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Черемных Ольг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ДООШ №1 ( КШ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Штернберг Арина Ильин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Савинская средняя школа» Перм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Основные  выводы по результатам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 выполнения двух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Выявлена  острая необходимость  поддержки по совершенствованию продуктивной письменн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2. Необходимо методическое сопровождение ( курсовая подготовка, практикумы) по  освоению технологии выполнения письменных заданий в формате итоговой аттес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3. Провести практикум по оцениванию письменных работ учащихся на критериальной основе в формате ОГЭ, Е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Обновлённый ФГОС  начального и основного общего образования: анализируем изменения, планируем реализацию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D:\РабочийСтол\Screenshot_3.png"/>
          <p:cNvPicPr/>
          <p:nvPr/>
        </p:nvPicPr>
        <p:blipFill>
          <a:blip r:embed="rId1"/>
          <a:stretch/>
        </p:blipFill>
        <p:spPr>
          <a:xfrm>
            <a:off x="539640" y="2174760"/>
            <a:ext cx="3468960" cy="4062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ФГОС Н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D:\РабочийСтол\Screenshot_1.png"/>
          <p:cNvPicPr/>
          <p:nvPr/>
        </p:nvPicPr>
        <p:blipFill>
          <a:blip r:embed="rId2"/>
          <a:stretch/>
        </p:blipFill>
        <p:spPr>
          <a:xfrm>
            <a:off x="5003640" y="2174760"/>
            <a:ext cx="35625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Что измен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Максимально конкретно прописываются требования к школьной программе, указывающие, что именно школьник должен изучить в рамках предмета, знать и уметь по итогам прохождения кур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Сохраняется акцент на улучшение метапредметных результатов обучения, то есть на формирование у детей навыков, необходимых для самостоятельного изучения предмета и оперирования полученной информац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регламентируется личностное развитие учащихся. Детей ждёт гражданское, патриотическое, духовно-нравственное, эстетическое, физическое, трудовое и экологическое воспит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Новые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ГОС</a:t>
            </a: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 для основного общего образования содержат значительно больше патриотических установок, особенно в контексте формировании у детей представлений о значимом международном положении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a424d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424d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Что изменилось?</a:t>
            </a:r>
            <a:r>
              <a:rPr b="1" lang="ru-RU" sz="4400" spc="-1" strike="noStrike">
                <a:solidFill>
                  <a:srgbClr val="3a424d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Требования к изучению основного иностранного языка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Изучая иностранный язык, дети в повседневной практике для закрепления полученных навыков должны знакомить представителей других народов с культурой и традициями народов России</a:t>
            </a:r>
            <a:r>
              <a:rPr b="0" lang="ru-RU" sz="1800" spc="-1" strike="noStrike">
                <a:solidFill>
                  <a:srgbClr val="3a424d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действующих ФГОС результатом базового обучения иностранному языку должно стать достижение порогового уровня владения, позволяющего выпускникам общаться в устной и письменной формах как с носителями изучаемого иностранного языка, так и с представителями других стран, использующими данный язык как средство общения</a:t>
            </a:r>
            <a:r>
              <a:rPr b="0" lang="ru-RU" sz="1800" spc="-1" strike="noStrike">
                <a:solidFill>
                  <a:srgbClr val="3a424d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По новому ФГОС школьники основной школы должны вести диалог объёмом до 8 реплик со стороны каждого собеседника, уметь составить монолог на 10-12 фраз, воспринимать и понимать на слух не более двух минут аутентичного текста, писать сообщение на 100-120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Изучение второго иностранного языка – не обязательн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640" y="10522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Преподавание ещё одного иностранного языка будет осуществляться при наличии такой возможности в конкретной школе и по заявлению родителей уче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рамках программы школьники должны научиться изъясняться на втором иностранном языке на уровне, «превышающем элементарный», то есть вести диалог объёмом до 5 реплик со стороны каждого собеседника и составлять монологи в 7-9 фраз, воспринимать и понимать на слух не более 1,5 минут несложного аутентичного текста, уметь писать сообщения до 90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9-07T11:34:31Z</dcterms:modified>
  <cp:revision>972</cp:revision>
  <dc:subject/>
  <dc:title>Diapositiva 1</dc:title>
</cp:coreProperties>
</file>